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319E-1453-4454-B5DA-C74CCDADA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A35D-06F5-4D90-98F1-8ED08515C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01C9-F10F-4843-A4C6-0B917B958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34E5-72D4-4874-9E6C-44B6162B0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2D8D-19EF-4336-A1E1-04B4E77AB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A761-889D-4B07-ABD7-C83B98590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51DD-FF62-4AA9-9735-4C63D8B74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6482-D039-4723-9937-81820BAA4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A33A-3DD9-458E-9F67-876881C6A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11ED-9F95-4599-9897-16EEB429E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81F2-C3E2-4C40-8E0F-CC9D5400D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FA87-E924-44EF-AF31-0610F4AD8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DD2F4-73D0-4F57-9A31-DBF500AB44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Showcard Gothic"/>
              </a:rPr>
              <a:t>Genetic </a:t>
            </a:r>
            <a:r>
              <a:rPr b="0" lang="en-US" sz="4400" spc="-1" strike="noStrike">
                <a:solidFill>
                  <a:srgbClr val="bbe0e3"/>
                </a:solidFill>
                <a:latin typeface="Comic Sans MS"/>
              </a:rPr>
              <a:t>Enginee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ocess of making changes in the DNA code of living organis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Comic Sans MS"/>
              </a:rPr>
              <a:t>Clo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be0e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Comic Sans MS"/>
              </a:rPr>
              <a:t>A </a:t>
            </a:r>
            <a:r>
              <a:rPr b="0" lang="en-US" sz="3200" spc="-1" strike="noStrike" u="sng">
                <a:solidFill>
                  <a:srgbClr val="bbe0e3"/>
                </a:solidFill>
                <a:uFillTx/>
                <a:latin typeface="Comic Sans MS"/>
              </a:rPr>
              <a:t>clone</a:t>
            </a:r>
            <a:r>
              <a:rPr b="0" lang="en-US" sz="3200" spc="-1" strike="noStrike">
                <a:solidFill>
                  <a:srgbClr val="bbe0e3"/>
                </a:solidFill>
                <a:latin typeface="Comic Sans MS"/>
              </a:rPr>
              <a:t> is a member of genetically identical cells produced from a single c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Comic Sans MS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be0e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Comic Sans MS"/>
              </a:rPr>
              <a:t>Scientists use their knowledge of the structure of DNA and its chemical properties to study and change DNA molec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bbe0e3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Comic Sans MS"/>
              </a:rPr>
              <a:t>Different techniques are used to extract DNA from cells, to cut DNA into smaller pieces, to identify the sequence of bases in a DNA molecule, and to make unlimited copies of D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Comic Sans MS"/>
              </a:rPr>
              <a:t>Separation of D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be0e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Comic Sans MS"/>
              </a:rPr>
              <a:t>DNA can be extracted from cells by a simple chemical re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bbe0e3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Comic Sans MS"/>
              </a:rPr>
              <a:t>The cells are opened up and the DNA is separated from the other cell p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Comic Sans MS"/>
              </a:rPr>
              <a:t>Cutting the D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be0e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bbe0e3"/>
                </a:solidFill>
                <a:uFillTx/>
                <a:latin typeface="Comic Sans MS"/>
              </a:rPr>
              <a:t>Restriction enzy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bbe0e3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Comic Sans MS"/>
              </a:rPr>
              <a:t>Proteins that cut DNA at specific sequences of b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be0e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Comic Sans MS"/>
              </a:rPr>
              <a:t>Actually used by bacteria as a defense against viral 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Comic Sans MS"/>
              </a:rPr>
              <a:t>Separating the D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be0e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bbe0e3"/>
                </a:solidFill>
                <a:uFillTx/>
                <a:latin typeface="Comic Sans MS"/>
              </a:rPr>
              <a:t>Gel electrophor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be0e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Comic Sans MS"/>
              </a:rPr>
              <a:t>Separation of DNA fragments through a porous gel using electrical curr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bbe0e3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Comic Sans MS"/>
              </a:rPr>
              <a:t>The smaller the DNA fragment, the further it travels through the g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Comic Sans MS"/>
              </a:rPr>
              <a:t>RecombinantD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be0e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Comic Sans MS"/>
              </a:rPr>
              <a:t>Combining DNA from two different 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bbe0e3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Comic Sans MS"/>
              </a:rPr>
              <a:t>Use restriction enzymes on both organism’s D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bbe0e3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Comic Sans MS"/>
              </a:rPr>
              <a:t>Take one piece of desired DNA(a gene) and insert it into DNA of the other organ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Comic Sans MS"/>
              </a:rPr>
              <a:t>Recombinant D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be0e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Comic Sans MS"/>
              </a:rPr>
              <a:t>Use plasmids found in bacte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bbe0e3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bbe0e3"/>
                </a:solidFill>
                <a:uFillTx/>
                <a:latin typeface="Comic Sans MS"/>
              </a:rPr>
              <a:t>Plasmid</a:t>
            </a:r>
            <a:r>
              <a:rPr b="0" lang="en-US" sz="2800" spc="-1" strike="noStrike">
                <a:solidFill>
                  <a:srgbClr val="bbe0e3"/>
                </a:solidFill>
                <a:latin typeface="Comic Sans MS"/>
              </a:rPr>
              <a:t> – a small circular piece of DNA that contains two essential piec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bbe0e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Comic Sans MS"/>
              </a:rPr>
              <a:t>A DNA sequence that helps promote plasmid re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bbe0e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Comic Sans MS"/>
              </a:rPr>
              <a:t>A genetic marker or a gene that makes is possible to distinguish bacteria that have the plasm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Comic Sans MS"/>
              </a:rPr>
              <a:t>Transgenic organis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be0e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Comic Sans MS"/>
              </a:rPr>
              <a:t>Organisms who have accepted recombined DNA are called </a:t>
            </a:r>
            <a:r>
              <a:rPr b="0" lang="en-US" sz="3200" spc="-1" strike="noStrike" u="sng">
                <a:solidFill>
                  <a:srgbClr val="bbe0e3"/>
                </a:solidFill>
                <a:uFillTx/>
                <a:latin typeface="Comic Sans MS"/>
              </a:rPr>
              <a:t>transgenic organis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bbe0e3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Comic Sans MS"/>
              </a:rPr>
              <a:t>They now have copies of a foreign DNA incorporated into their own D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Comic Sans MS"/>
              </a:rPr>
              <a:t>PC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be0e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bbe0e3"/>
                </a:solidFill>
                <a:uFillTx/>
                <a:latin typeface="Comic Sans MS"/>
              </a:rPr>
              <a:t>Polymerase chain re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be0e3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Comic Sans MS"/>
              </a:rPr>
              <a:t>Technique used to make several copies of a sequence of D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be0e3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Comic Sans MS"/>
              </a:rPr>
              <a:t>Amount of DNA doubles after each round of PC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be0e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Comic Sans MS"/>
              </a:rPr>
              <a:t>DNA is heated to separate the strands, then it is cooled to allow a primer to bond to the single str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be0e3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Comic Sans MS"/>
              </a:rPr>
              <a:t>DNA polymerase then adds free dNA nucleoti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13:53:50Z</dcterms:created>
  <dc:creator>bpalme</dc:creator>
  <dc:description/>
  <dc:language>en-US</dc:language>
  <cp:lastModifiedBy>udsd</cp:lastModifiedBy>
  <dcterms:modified xsi:type="dcterms:W3CDTF">2009-05-26T12:04:04Z</dcterms:modified>
  <cp:revision>6</cp:revision>
  <dc:subject/>
  <dc:title>Genetic Engineering</dc:title>
</cp:coreProperties>
</file>